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4B2-0C2D-4D48-A97E-4A1D563A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364-2506-4427-9B69-A78708C0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39C-030A-4C2B-92D4-C20BB410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133-618F-4C31-8F35-90F0B9EE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729D-4A2F-4EE4-BF59-E4080931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B6C-79A5-4E0D-A9C4-CB0F902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B039-D8C0-4635-9827-A823327C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714-1633-4CC7-A751-0B3FEBBF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9312-22EF-4C82-972E-C2934BB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0902-724A-4D7D-8F5B-EA9029F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7B89-91BF-43B2-80A8-07F11D91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870-3AAD-45BD-BDA0-F5380CDB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A053-B6D9-4961-A1A7-F647215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888-BEB6-4F55-9AC6-B80C1BF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5AA0-BAC1-434C-8C76-18263E5E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0B6F-06D5-4F28-8AD1-C65B3C38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8359-4F82-47E1-A1E8-EDC824D3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40-0895-47BD-BAC9-FED932B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C66-A3D5-4648-BC7D-DA719D31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D81-2EA5-43A1-8274-7A6AD840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A83-315C-495F-89CA-E9ECAC56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395-3DF7-4680-89EC-380A949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EAC-E282-46F3-8D64-8ED75AF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FA5-D663-4C1E-8208-F3B4798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3AA6-80C8-42EE-90CC-47CCB421EC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194-C86F-4975-9135-99C174B08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db.com/rg/mediaindex/thumbnail/media/rm3146356992/tt0083866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mcbridewesternwear.com/images/Waving_American_Flag.jpg&amp;imgrefurl=http://www.mcbridewesternwear.com/index.php%3Fmain_page%3Dindex%26cPath%3D78&amp;usg=__UFFuQuZan8shiAODarTVSxmHcmw=&amp;h=547&amp;w=877&amp;sz=587&amp;hl=en&amp;start=15&amp;um=1&amp;tbnid=PumArnNmoiNuAM:&amp;tbnh=91&amp;tbnw=146&amp;prev=/images%3Fq%3Damerican%2Bflag%26hl%3Den%26safe%3Dactive%26rls%3Dcom.microsoft:en-us%26um%3D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REMEMBER E.T.?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Of all the places in the world…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640" y="790560"/>
            <a:ext cx="8010720" cy="527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RLS WILL BE GIR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ther</a:t>
            </a:r>
            <a:br>
              <a:rPr sz="44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asculine Traits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eminine Trait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ri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works a full time j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urturing and attentive to the children’s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rtive- She is the boss of the household and the children, strong and in 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cries a lot in the fil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sad about her husband leaving, but she is selfless, and she empathizes with her childre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533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ze Gerti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e, loving, caring, needy plays with dolls, plays dress up with E.T., matriarch in training, bows in her hair, baby s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6232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962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udent Activi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character  from the film. Choose specific scenes from the film that show the gender roles and expectation assigned to th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was a father figure in the film, what do you think he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 gender roles depicted in the film are related to America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der characteristics are depicted in the fi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and Gertie have more distinct qualities of male and female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 and Elliot are more neutral gendered; their roles transcend those that society has assign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thing to think abou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ender is E.T.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248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What can we conclude about E.T.’s culture and life on his planet of origin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.T. Landed in the U.S.A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he was bombarded with cultu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6" descr="et"/>
          <p:cNvPicPr/>
          <p:nvPr/>
        </p:nvPicPr>
        <p:blipFill>
          <a:blip r:embed="rId1"/>
          <a:stretch/>
        </p:blipFill>
        <p:spPr>
          <a:xfrm>
            <a:off x="1295280" y="13716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1" descr="et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2"/>
          <p:cNvSpPr/>
          <p:nvPr/>
        </p:nvSpPr>
        <p:spPr>
          <a:xfrm>
            <a:off x="2286000" y="4876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4" descr="Waving_American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648320"/>
            <a:ext cx="3581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ese’s Pieces, Toys, and Love…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are these things indicators of culture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11" descr="reeses-pieces"/>
          <p:cNvPicPr/>
          <p:nvPr/>
        </p:nvPicPr>
        <p:blipFill>
          <a:blip r:embed="rId1"/>
          <a:stretch/>
        </p:blipFill>
        <p:spPr>
          <a:xfrm>
            <a:off x="228600" y="19810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E.T. hugs Elliott ( Henry Thomas ) in Universal's E.T. The Extra-Terrestrial"/>
          <p:cNvPicPr/>
          <p:nvPr/>
        </p:nvPicPr>
        <p:blipFill>
          <a:blip r:embed="rId2"/>
          <a:stretch/>
        </p:blipFill>
        <p:spPr>
          <a:xfrm>
            <a:off x="380880" y="4495680"/>
            <a:ext cx="3886200" cy="221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et3"/>
          <p:cNvPicPr/>
          <p:nvPr/>
        </p:nvPicPr>
        <p:blipFill>
          <a:blip r:embed="rId3"/>
          <a:stretch/>
        </p:blipFill>
        <p:spPr>
          <a:xfrm>
            <a:off x="5334120" y="35337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ese’s Pieces, Toys, and Love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can these be considered indicators of American Cultu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universal about these thing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76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CTIVITY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 Select a specific scene from the film that exhibits elements of American Cul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ought questions for stud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over 25 years since the film was made; if a new modern version were produced today, how do you think it would be different from the origi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American culture changed since the film was made in 198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merican culture still the same as it was 25 years ag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are Gender Roles Depicted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 the film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suggests that in society, certain qualities are assigned to males and other qualities assigned to females (Gender Stereotypes). For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STRONG AND T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RE MEEK AND 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alyze examples of Gender Stereotypes in the fil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YS WILL BE BOY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15238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What does tha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pictions of Masculinity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20" name="Organization Chart 7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cha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older br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enager in high schoo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ginning to dr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ldest of thre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ough Gu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otball play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ases hi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nger siblings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 Of the hou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ther abandone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famil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pha Ma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ves E.T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hen he is dy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the w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About Elliot?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Gendered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Rectangle 11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305748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327672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52280" y="1600200"/>
          <a:ext cx="4343040" cy="266688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</a:tblGrid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cy towards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chievou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Non- Mascu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tur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ea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495288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Select which qualities you want to focus on and choose specific scenes from the film as evidence that supports your foc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8:07:35Z</dcterms:created>
  <dc:creator>SOCSD</dc:creator>
  <dc:description/>
  <dc:language>en-US</dc:language>
  <cp:lastModifiedBy> Josh Lungen</cp:lastModifiedBy>
  <dcterms:modified xsi:type="dcterms:W3CDTF">2009-10-17T04:53:32Z</dcterms:modified>
  <cp:revision>19</cp:revision>
  <dc:subject/>
  <dc:title>Depictions of Masculinity </dc:title>
</cp:coreProperties>
</file>